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CBD-A226-4411-BD78-C699BB79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155-D44E-4830-99E9-60E4B4EC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51E-92E5-4055-80C5-FC381D64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CE1-2740-46EB-8320-8F551B2F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99D4-C37D-4CF4-AA16-217528E9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7B04-4862-4812-AD2E-730CAA32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847C-ACA4-4F6C-9E7C-B6C41EAE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337E-1AD7-4737-B228-4AAB6246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64E3-1E91-4595-8FA7-318C074B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50DE-2A33-4E6C-BD48-E3A7429C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001F-646C-45E8-A1E0-875A7D59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98D-6669-47C5-9CAC-4828CFDA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DBE7-392C-4ED7-A39A-0C520AA3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F111-EE25-4D18-91B7-4A8B19BF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E023-79D5-49ED-BBCE-49CAF9FF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B3F3-25E7-4B89-8A62-C21F6825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4813-CE71-4D4E-98D6-5C7E5591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AFF-B5AA-4C99-B582-66A9B42E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DED-F91F-43A8-A67E-29433AAB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9C0-CB6F-4F74-A7C3-74E5D0EE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8A1-F767-443D-856E-B8953537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F07B-D0F6-4638-AB13-EC3D7852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565-EC60-41B0-A341-A4A19528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548-5148-441C-A1CF-52A87489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D20E-C6AF-44DB-939C-91F22419D0E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41E2-4218-4468-AA29-57F6DA31FF1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700" spc="-1" strike="noStrike">
                <a:solidFill>
                  <a:srgbClr val="8c0039"/>
                </a:solidFill>
                <a:latin typeface="Arial"/>
              </a:rPr>
              <a:t>     </a:t>
            </a:r>
            <a:r>
              <a:rPr b="0" lang="zh-CN" sz="8700" spc="-1" strike="noStrike">
                <a:solidFill>
                  <a:srgbClr val="8c0039"/>
                </a:solidFill>
                <a:latin typeface="Arial"/>
              </a:rPr>
              <a:t>畅谈奥运</a:t>
            </a:r>
            <a:endParaRPr b="0" lang="en-US" sz="87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0509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制作人：班干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805360"/>
            <a:ext cx="39384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c0039"/>
                </a:solidFill>
                <a:latin typeface="Arial"/>
              </a:rPr>
              <a:t>圣火的熄灭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680400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02 -0.27991 C -0.09306 -0.24665 -0.03195 -0.21732 0.04496 -0.2164 C 0.1059 -0.21339 0.1559 -0.22933 0.15694 -0.24965 C 0.15694 -0.26952 0.10798 -0.28799 0.046 -0.28915 C 0.01493 -0.28915 -0.01302 -0.28661 -0.03299 -0.27991 C -0.06198 -0.27067 -0.079 -0.25589 -0.079 -0.23857 C -0.079 -0.22933 -0.07396 -0.22009 -0.06493 -0.21201 C -0.0441 -0.19492 -0.00295 -0.18314 0.04392 -0.18152 C 0.09896 -0.17898 0.14392 -0.19376 0.14392 -0.21062 C 0.14496 -0.22933 0.1 -0.2455 0.04496 -0.24804 C 0.01701 -0.24804 -0.00799 -0.2455 -0.02709 -0.24018 C -0.05209 -0.23095 -0.06806 -0.2164 -0.06806 -0.20162 C -0.06806 -0.19376 -0.06302 -0.18545 -0.05504 -0.17737 C -0.03594 -0.16282 3.33333000000075E-006 -0.15081 0.04305 -0.14965 C 0.09305 -0.14827 0.13298 -0.16166 0.13298 -0.17737 C 0.13402 -0.19376 0.09392 -0.20808 0.04392 -0.2097 C 0.01892 -0.21062 -0.004 -0.20808 -0.02101 -0.20277 C -0.0441 -0.19492 -0.05695 -0.18314 -0.05695 -0.16813 C -0.05695 -0.16166 -0.05295 -0.15358 -0.04601 -0.14688 C -0.029 -0.13349 0.00399 -0.12286 0.04201 -0.12171 C 0.08698 -0.12171 0.12291 -0.13256 0.12291 -0.14688 C 0.12291 -0.16166 0.08802 -0.17506 0.04305 -0.17644 C 0.021 -0.17644 3.33333000000075E-006 -0.17344 -0.01493 -0.16952 C -0.03594 -0.16282 -0.04809 -0.15081 -0.04896 -0.13903 C -0.04896 -0.13256 -0.0441 -0.12564 -0.03802 -0.12032 C -0.02309 -0.10693 0.00694 -0.09769 0.04097 -0.09769 C 0.0809 -0.09654 0.11406 -0.10554 0.11406 -0.11917 C 0.11493 -0.13256 0.08194 -0.14411 0.04201 -0.1455 C 0.02205 -0.1455 0.00295 -0.14411 -0.01007 -0.13903 C -0.029 -0.13349 -0.03993 -0.12286 -0.03993 -0.11224 C -0.03993 -0.10554 -0.03698 -0.10046 -0.03108 -0.09515 C -0.01702 -0.08337 0.00902 -0.07506 0.03993 -0.0739 C 0.07691 -0.0739 0.1059 -0.08176 0.1059 -0.09376 C 0.10694 -0.10554 0.07795 -0.1164 0.04097 -0.11778 C 0.02291 -0.11778 0.00694 -0.1164 -0.00504 -0.11224 C -0.02205 -0.10693 -0.03195 -0.09769 -0.03195 -0.0873 C -0.03195 -0.08176 -0.029 -0.07783 -0.02396 -0.07252 C -0.01198 -0.06166 0.01198 -0.0552 0.03993 -0.05381 C 0.07291 -0.05266 0.09896 -0.06074 0.09896 -0.07252 C 0.09896 -0.08176 0.07396 -0.09261 0.04097 -0.09261 C 0.02396 -0.09376 0.00902 -0.09122 -0.00209 -0.08868 C -0.01702 -0.08337 -0.02604 -0.07506 -0.02604 -0.06605 C -0.02604 -0.06074 -0.02309 -0.05681 -0.01806 -0.05266 C -0.00695 -0.04319 0.01493 -0.03649 0.03906 -0.0351 C 0.06892 -0.03395 0.09305 -0.0418 0.09305 -0.05104 C 0.09305 -0.06166 0.06892 -0.06998 0.03993 -0.07136 C 0.02604 -0.07136 0.01198 -0.06998 0.00191 -0.06605 C -0.01198 -0.06166 -0.01997 -0.0552 -0.01997 -0.04573 C -0.01997 -0.0418 -0.01702 -0.03788 -0.01302 -0.03395 C -0.00295 -0.0261 0.01597 -0.01917 0.03906 -0.01917 C 0.06493 -0.01778 0.08698 -0.02448 0.08698 -0.03395 C 0.08698 -0.0418 0.06597 -0.04988 0.03906 -0.04988 C 0.02691 -0.05104 0.01406 -0.04988 0.00503 -0.04711 C -0.00695 -0.0418 -0.01407 -0.0351 -0.01407 -0.02841 C -0.01407 -0.02448 -0.01198 -0.02055 -0.00799 -0.01778 C 0.00104 -0.00993 0.01805 -0.00462 0.03906 -0.00323 C 0.06302 -0.00323 0.08194 -0.00993 0.08194 -0.01663 C 0.08194 -0.02448 0.06302 -0.03256 0.03906 -0.03256 C 0.02691 -0.03256 0.01597 -0.03118 0.00902 -0.02841 C -0.00295 -0.0261 -0.00903 -0.01917 -0.00903 -0.01247 C -0.00903 -0.00993 -0.00695 -0.00577 -0.004 -0.00323 C 0.00399 0.00485 0.01996 0.00878 0.03802 0.01016 C 0.06007 0.01016 0.07691 0.00485 0.07691 -0.00185 C 0.07691 -0.00993 0.06007 -0.01524 0.03906 -0.01663 C 0.02795 -0.01663 0.01805 -0.01524 0.01093 -0.01247 C 0.00104 -0.00993 -0.00504 -0.00462 -0.00504 0.00208 C -0.00504 0.00485 -0.00295 0.00739 3.33333E-006 0.01016 E">
                                      <p:cBhvr>
                                        <p:cTn id="15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c0039"/>
                </a:solidFill>
                <a:latin typeface="Arial"/>
              </a:rPr>
              <a:t>“</a:t>
            </a:r>
            <a:r>
              <a:rPr b="0" lang="zh-CN" sz="6000" spc="-1" strike="noStrike">
                <a:solidFill>
                  <a:srgbClr val="8c0039"/>
                </a:solidFill>
                <a:latin typeface="Arial"/>
              </a:rPr>
              <a:t>永不熄灭”的圣火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5977080" cy="51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56 -0.33465 L -0.21563 -0.33465 L -0.21563 -0.28684 L -0.17969 -0.28684 L -0.17969 -0.23903 L -0.14375 -0.23903 L -0.14375 -0.19123 L -0.10781 -0.19123 L -0.10781 -0.14342 L -0.07188 -0.14342 L -0.07188 -0.09562 L -0.03594 -0.09562 L -0.03594 -0.04781 L 5.55556E-007 -0.04781 L 5.55556E-007 4.45727E-006 E">
                                      <p:cBhvr>
                                        <p:cTn id="16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Arial"/>
              </a:rPr>
              <a:t>中国奥运的辉煌历史</a:t>
            </a:r>
            <a:endParaRPr b="0" lang="en-US" sz="53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411280" y="1557360"/>
            <a:ext cx="6732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国体育代表团在悉尼奥运会上共夺得２８枚金牌、１６枚银牌和１５枚铜牌，首次列奖牌榜第三位。这是中国在参加奥运会历史上取得的新突破，实现的巨大跨越。竞技体育是社会的宠儿，政府和民众哺育它成长，国家的政治、经济、文化等各方面为它提供营养。因此，它可以从一个角度反映一个国家的兴衰和人民精神面貌的变化。中国参加奥运会的历史，可以说是中国发展的缩影，中华民族崛起的历史见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40000" y="404280"/>
            <a:ext cx="6400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c0039"/>
                </a:solidFill>
                <a:latin typeface="Arial"/>
              </a:rPr>
              <a:t>谢谢观看！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-360"/>
            <a:ext cx="6400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300" spc="-1" strike="noStrike">
                <a:solidFill>
                  <a:srgbClr val="00ff00"/>
                </a:solidFill>
                <a:latin typeface="Arial"/>
              </a:rPr>
              <a:t>奥运开幕式</a:t>
            </a:r>
            <a:endParaRPr b="0" lang="en-US" sz="83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37920" y="1600200"/>
            <a:ext cx="3124440" cy="4495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484360" y="1628640"/>
            <a:ext cx="665964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c0039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8c0039"/>
                </a:solidFill>
                <a:latin typeface="Arial"/>
              </a:rPr>
              <a:t>雅 典 风 采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687564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6400800" cy="4495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6948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zh-CN" sz="7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zh-CN" sz="7200" spc="-1" strike="noStrike">
                <a:solidFill>
                  <a:srgbClr val="8c0039"/>
                </a:solidFill>
                <a:latin typeface="Arial"/>
              </a:rPr>
              <a:t>女 排 姑 娘 们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702000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c0039"/>
                </a:solidFill>
                <a:latin typeface="Arial"/>
              </a:rPr>
              <a:t>运动场上的健儿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6948360" cy="558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1.66282E-006 C -0.24705 -0.02517 -0.24306 -0.04919 -0.23507 -0.04919 C -0.22604 -0.04919 -0.22292 -0.02517 -0.21997 1.66282E-006 C -0.21597 0.02794 -0.21302 0.05589 -0.20295 0.05589 C -0.19393 0.05589 -0.19097 0.02794 -0.18698 1.66282E-006 C -0.18507 -0.02517 -0.18108 -0.04919 -0.17205 -0.04919 C -0.16407 -0.04919 -0.16007 -0.02517 -0.15695 1.66282E-006 C -0.154 0.02794 -0.15 0.05589 -0.14097 0.05589 C -0.13195 0.05589 -0.125 1.66281999999999E-006 -0.125 0.00023 C -0.12205 -0.02517 -0.11893 -0.04919 -0.11007 -0.04919 C -0.10104 -0.04919 -0.09792 -0.02517 -0.09497 1.66282E-006 C -0.09097 0.02794 -0.08802 0.05589 -0.07795 0.05589 C -0.06893 0.05589 -0.06597 0.02794 -0.06302 1.66282E-006 C -0.05903 -0.02517 -0.05608 -0.04919 -0.04705 -0.04919 C -0.03907 -0.04919 -0.03507 -0.02517 -0.03195 1.66282E-006 C -0.029 0.02794 -0.025 0.05589 -0.01597 0.05589 C -0.00695 0.05589 -0.004 0.02794 2.77778E-006 1.66282E-006 E">
                                      <p:cBhvr>
                                        <p:cTn id="10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c0039"/>
                </a:solidFill>
                <a:latin typeface="Arial"/>
              </a:rPr>
              <a:t>中国的小花朵</a:t>
            </a:r>
            <a:endParaRPr b="0" lang="en-US" sz="8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6732720" cy="53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680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c0039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8c0039"/>
                </a:solidFill>
                <a:latin typeface="Arial"/>
              </a:rPr>
              <a:t>畅 想 </a:t>
            </a:r>
            <a:r>
              <a:rPr b="0" lang="zh-CN" sz="6000" spc="-1" strike="noStrike">
                <a:solidFill>
                  <a:srgbClr val="8c0039"/>
                </a:solidFill>
                <a:latin typeface="Arial"/>
              </a:rPr>
              <a:t>2 0 0 8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734508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04:08:4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05:06Z</dcterms:modified>
  <cp:revision>3</cp:revision>
  <dc:subject>主题班会课件(分28大类): http://shop62905894.taobao.com</dc:subject>
  <dc:title>主题班会课件(分28大类): http://shop62905894.taobao.com</dc:title>
</cp:coreProperties>
</file>